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png" ContentType="image/png"/>
  <Override PartName="/ppt/media/image6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12.wmf" ContentType="image/x-wmf"/>
  <Override PartName="/ppt/media/image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18.png" ContentType="image/png"/>
  <Override PartName="/ppt/media/image17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5.jpeg" ContentType="image/jpeg"/>
  <Override PartName="/ppt/media/image20.wmf" ContentType="image/x-wmf"/>
  <Override PartName="/ppt/media/image8.png" ContentType="image/png"/>
  <Override PartName="/ppt/media/image16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FA2A-88BB-4051-A462-BDAE0D509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3B25-D100-4F2E-8B6A-6315DFE8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0992-C05F-4F55-8072-DCBB8BCEE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00E1-9C0E-44E2-9138-37D02510A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3AC5-4E46-4CFD-A46D-BC9B39386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663B-4F28-4B1B-88FB-4529F9D1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534C-CF7C-4F3A-BBA8-CBAE0A91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EA0A2-6856-4342-85A3-0C904390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1526F-4BCB-45B7-BE07-EDBA8135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2B35-29CE-4EEC-871D-D84ECB17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EA6A1-7742-41D7-8F54-C552E771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E020-B8E6-4171-9E3F-9C6DF5F8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7F7C-8892-4DA0-B8C0-414EFC09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6D155-B45F-4788-8AA0-E7515A61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57B64-0D6F-48B7-B490-E84A3D42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B4F29-86C8-4FA4-A1E3-97FFDBF1D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36297-DCE2-405D-A78E-A9F909CC5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2E855-D744-43C3-8E28-08F346674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28C4E-BE10-4D2C-8DEE-1D8D926E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8280C-7BE5-4CC9-AFF1-E8275C3C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356A0-70F4-4F5E-9CB7-DEC91892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C857E-BDCF-4492-AAD3-418378C6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3DD8-B3E0-488B-8741-71D0473C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317B5-BDBD-4964-B4B1-52DA8FBD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5F30A-E044-4406-9FBD-D17C2BAB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A9E2E-6620-4F53-B3C5-6D45BCB7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C728C-DDD6-4CBD-A036-217380CE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2EEFB-2EFD-4FE8-94B4-E0F09C96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04B32-E0A2-45F7-B4C3-513F52888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B35D1-EDF9-46F6-BF7C-5BBF26A87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EBC4B-9C78-4647-BA9C-17D6F9BEE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081F8-E744-4C5D-8125-4AC35D3E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B70DA-359E-43A8-B2F7-37EF893A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8353-71C6-4253-9927-A2C22C1B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E3523-D735-4EDB-89EF-3937D63D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89463-13A9-4526-87EF-8B194956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2E8AD-F4A3-418E-9C06-C567F323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01DE6-791F-4ACF-BF7E-F535509F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3BC2B-55FB-4DCA-9A70-F52AE13D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49677-1B86-47B4-9040-84051686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BD888-1B85-49FF-9056-84AA2F22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92908-AC3A-40D3-B0F5-4428AE455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632D3-EDD7-4AB9-8484-479D3988A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031E7-CC56-43AF-B8A4-DFD26D321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ABDB-2480-4FD2-BE82-FC3D83E4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047C9-392D-474E-8A71-4A633088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A0843-F63D-4B2B-A504-862D2A59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BE8F4-466D-4466-833B-ABFD2D53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DFD6B-4DED-45E2-9A45-5A32B03C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7B02D-650F-473F-8B61-92BA1AE6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9EF59-5D09-43B3-BD12-DE7CFEC9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89146-0EE7-437F-BD2A-75EDEDA6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AE9DF-978C-4D38-B0CC-02703217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FE137-A183-4D22-AD12-6FED2521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5D893-A71F-46C8-B2E7-C8F29CCB0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D91C-2504-417A-B563-1C50450F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C657E-86AF-4C1D-B806-C7C133993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E612A-0937-4B94-948D-5DA5BEB18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D8A42-7375-49D7-BE16-45F6F829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2BC3B-91A2-4E19-B828-28B7BDA0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302D6-56E3-41DE-9C37-9684D79E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F5E08-5AB7-4EEB-89B4-725C1FBC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B0427-CCE5-40B2-A0DD-675812BE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A6954-8609-4FE0-B731-399FE4F6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3C180-B111-4B69-97CA-E5D2AF5B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CB8C5-3D44-4B44-9FF6-540293D3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40D9-495D-465B-8896-50695068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4D47B-EB39-4465-9B2A-6C0C5CA9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97F6B-1FAC-4E3C-9179-05E7EF65D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4567B-37CF-4DA6-AFEC-76C0BE7A8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A3256-B3DC-4A9C-8F66-175207080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AE227-836C-4ADE-873C-F2C24EF4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ACC5E-6721-434D-9437-F2E1C0FD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02926-7991-4F82-A6DE-01CC041B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19C91-B2B0-458A-B53E-33D6E637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60825-826E-47C9-9FD9-0C98099B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24A50-E5DB-494D-86CF-9B99091C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8E4E-7456-4761-B5C8-A76E71F4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E82E4-2D7E-43A8-801C-527B4E46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6B844-74C1-47A0-B46A-E9BF3064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C7ACB-D77E-4861-9239-670C4479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55CD2-34BC-4508-9FC1-E0A49B7EF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CBF03-1808-4C4C-9109-E8B798C12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F5C3E-A4BD-4812-875D-B2C150E20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2E921-FCD1-4D03-B818-D49E6B8D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7992B-7B8C-4B51-9B80-EB1AE2E0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832D5-56F7-4AF6-884F-3986B192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53686-EEA0-44F6-928B-5ACE69A1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9446-EDAE-460E-9308-3972C707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5A548-71B4-4121-A7C3-F186BEE3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9B164-E1B4-4265-B6A7-D5C440BF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2B879-98A8-42E5-A00F-A1B2870E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BA5E4-4CAD-493C-9E55-1B1CD48C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1C94C-F284-4B1E-A4F2-C998D286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5CF2B-EBCF-4AF0-B92F-32F929F35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4B6DC-3A80-4FA6-B630-A235F8621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Trójkąt prostokątny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Trójkąt prostokątny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Łącznik prostoliniowy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6C91-BBEF-4A1F-9C0D-4F0A2DDC66DF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ójkąt prostokątny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upa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Dowolny kształt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Dowolny kształt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Dowolny kształt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Dowolny kształt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Łącznik prostoliniowy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FA22-0235-4374-9503-5674D9420775}" type="slidenum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Trójkąt prostokątny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Łącznik prostoliniowy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ag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ag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2E11-6A61-4279-BFD7-1F43D54E7DD3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Trójkąt prostokątny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Łącznik prostoliniowy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B921-3F9D-4CB9-99BD-F7442633A73E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7DCD-56EB-440F-9E99-67597F34B367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Trójkąt prostokątny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Łącznik prostoliniowy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5FAD-4DC5-4353-A575-D8C5963D4C53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A015-75A8-4357-B3F2-EDE8ABD6C10F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Dowolny kształt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Dowolny kształt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Trójkąt prostokątny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Trójkąt prostokątny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Łącznik prostoliniowy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ag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Pag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8B63-945E-4904-8A13-A5044E5DEF57}" type="slidenum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ytuł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" descr=""/>
          <p:cNvPicPr/>
          <p:nvPr/>
        </p:nvPicPr>
        <p:blipFill>
          <a:blip r:embed="rId2"/>
          <a:stretch/>
        </p:blipFill>
        <p:spPr>
          <a:xfrm>
            <a:off x="825480" y="1481040"/>
            <a:ext cx="7493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"/>
          <p:cNvPicPr/>
          <p:nvPr/>
        </p:nvPicPr>
        <p:blipFill>
          <a:blip r:embed="rId2"/>
          <a:stretch/>
        </p:blipFill>
        <p:spPr>
          <a:xfrm>
            <a:off x="825480" y="1481040"/>
            <a:ext cx="7493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"/>
          <p:cNvPicPr/>
          <p:nvPr/>
        </p:nvPicPr>
        <p:blipFill>
          <a:blip r:embed="rId2"/>
          <a:stretch/>
        </p:blipFill>
        <p:spPr>
          <a:xfrm>
            <a:off x="1258920" y="1916280"/>
            <a:ext cx="6745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"/>
          <p:cNvPicPr/>
          <p:nvPr/>
        </p:nvPicPr>
        <p:blipFill>
          <a:blip r:embed="rId2"/>
          <a:stretch/>
        </p:blipFill>
        <p:spPr>
          <a:xfrm>
            <a:off x="816120" y="1481040"/>
            <a:ext cx="7511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"/>
          <p:cNvPicPr/>
          <p:nvPr/>
        </p:nvPicPr>
        <p:blipFill>
          <a:blip r:embed="rId2"/>
          <a:stretch/>
        </p:blipFill>
        <p:spPr>
          <a:xfrm>
            <a:off x="1158840" y="1481040"/>
            <a:ext cx="6826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457200" y="1625760"/>
            <a:ext cx="822960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"/>
          <p:cNvPicPr/>
          <p:nvPr/>
        </p:nvPicPr>
        <p:blipFill>
          <a:blip r:embed="rId2"/>
          <a:stretch/>
        </p:blipFill>
        <p:spPr>
          <a:xfrm>
            <a:off x="623880" y="1481040"/>
            <a:ext cx="7896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" descr=""/>
          <p:cNvPicPr/>
          <p:nvPr/>
        </p:nvPicPr>
        <p:blipFill>
          <a:blip r:embed="rId2"/>
          <a:stretch/>
        </p:blipFill>
        <p:spPr>
          <a:xfrm>
            <a:off x="457200" y="1486080"/>
            <a:ext cx="8229600" cy="45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457200" y="2171880"/>
            <a:ext cx="822960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"/>
          <p:cNvPicPr/>
          <p:nvPr/>
        </p:nvPicPr>
        <p:blipFill>
          <a:blip r:embed="rId2"/>
          <a:stretch/>
        </p:blipFill>
        <p:spPr>
          <a:xfrm>
            <a:off x="465120" y="1481040"/>
            <a:ext cx="8213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"/>
          <p:cNvPicPr/>
          <p:nvPr/>
        </p:nvPicPr>
        <p:blipFill>
          <a:blip r:embed="rId2"/>
          <a:stretch/>
        </p:blipFill>
        <p:spPr>
          <a:xfrm>
            <a:off x="457200" y="2271600"/>
            <a:ext cx="822960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" descr=""/>
          <p:cNvPicPr/>
          <p:nvPr/>
        </p:nvPicPr>
        <p:blipFill>
          <a:blip r:embed="rId2"/>
          <a:stretch/>
        </p:blipFill>
        <p:spPr>
          <a:xfrm>
            <a:off x="457200" y="1798560"/>
            <a:ext cx="822960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2" descr=""/>
          <p:cNvPicPr/>
          <p:nvPr/>
        </p:nvPicPr>
        <p:blipFill>
          <a:blip r:embed="rId2"/>
          <a:stretch/>
        </p:blipFill>
        <p:spPr>
          <a:xfrm>
            <a:off x="1004760" y="1481040"/>
            <a:ext cx="7134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0T06:27:13Z</dcterms:created>
  <dc:creator>Ania</dc:creator>
  <dc:description/>
  <dc:language>en-US</dc:language>
  <cp:lastModifiedBy>Ania</cp:lastModifiedBy>
  <dcterms:modified xsi:type="dcterms:W3CDTF">2013-07-10T06:49:14Z</dcterms:modified>
  <cp:revision>9</cp:revision>
  <dc:subject/>
  <dc:title>POTĘGI I PIERWIASTKI</dc:title>
</cp:coreProperties>
</file>